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3.jpeg" ContentType="image/jpeg"/>
  <Override PartName="/ppt/media/image35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38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A1B-7F2D-4120-988E-A8D4A5C9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081-40A9-43CA-ABC4-C5CEC89C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898-D5BE-4D69-BFA4-896E037D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20A-96DB-44AB-A5B2-213EDB36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DD9E-B1CC-4EBD-B07D-5EE2B0FA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574E-4470-4544-A311-A8D13F2C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38A7-F685-4DEB-89F9-AF1C7E70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DAC9-385D-4F93-869B-C2C9E90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1640-AE2E-4D02-B426-FEB6E10C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A6D6-621A-4597-AD60-3BF5596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1F74-94E2-411A-9973-6FE2B45A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296-39CC-4DF2-9AA4-3D890268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6FF5-4261-40C5-8E72-09B641D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56D9-E21E-4B93-A8CA-0575F53C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85D8-669E-49AD-8E32-6BA0A48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BDBF-0958-4E2B-82C8-EDCEFDA4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D9D-508F-49E1-A057-EF698908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9D1-AE05-4F8A-877C-FEA6810A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408-7F0D-41A4-9801-A16739FB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832-8EFB-40E5-ACA4-B00C37AA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7D6-6646-42E7-B692-2DF3D2FA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003-452E-41DB-8792-E110386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1B5-5788-4497-AD0E-95CB6DF4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E26-C30F-4B8B-AFE1-C948FDA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C737-7CDD-4C7A-AE11-5471045A2D4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2CD4-8AD1-43D5-B3A3-C121DDF9F48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1.jpe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0.wmf"/><Relationship Id="rId7" Type="http://schemas.openxmlformats.org/officeDocument/2006/relationships/image" Target="../media/image13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1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2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25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Times New Roman"/>
              </a:rPr>
              <a:t>Архитектура ЭВ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55640" y="21337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истемный блок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71640" y="3500280"/>
            <a:ext cx="1509840" cy="925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355280" y="3429000"/>
            <a:ext cx="139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лавиатура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440388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системном блоке находятся все основные узлы компьютера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380880" indent="381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атеринская плата;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380880" indent="381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лектронные схемы (процессор,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нтроллеры устройств и т.д.);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380880" indent="381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лок питания;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380880" indent="3812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исководы (накопители)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0" t="0" r="58320" b="0"/>
          <a:stretch/>
        </p:blipFill>
        <p:spPr>
          <a:xfrm>
            <a:off x="1042920" y="2781360"/>
            <a:ext cx="1332000" cy="1671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1773360"/>
            <a:ext cx="1800360" cy="148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786200" y="206064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нитор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3413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ерсональные компьютеры обычно состоят из следующих основных модулей: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rcRect l="0" t="0" r="-5302" b="0"/>
          <a:stretch/>
        </p:blipFill>
        <p:spPr>
          <a:xfrm>
            <a:off x="5508720" y="4724280"/>
            <a:ext cx="3225600" cy="160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rcRect l="0" t="0" r="0" b="10815"/>
          <a:stretch/>
        </p:blipFill>
        <p:spPr>
          <a:xfrm>
            <a:off x="6588000" y="2205000"/>
            <a:ext cx="1887840" cy="1754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4859280" y="3933720"/>
            <a:ext cx="685800" cy="554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24360" y="407664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ышка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549360"/>
            <a:ext cx="8077320" cy="6192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993300"/>
                </a:solidFill>
                <a:latin typeface="Times New Roman"/>
              </a:rPr>
              <a:t>Основные характеристики модулей  ЭВМ</a:t>
            </a:r>
            <a:endParaRPr b="0" lang="en-US" sz="33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06880" y="52380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атеринская плат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979640" y="1628640"/>
          <a:ext cx="5105520" cy="36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628640"/>
                    <a:ext cx="5105520" cy="36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307640" y="208116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 Cyr"/>
              </a:rPr>
              <a:t>Слот для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 Cyr"/>
              </a:rPr>
              <a:t>ОЗУ(</a:t>
            </a: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ROM</a:t>
            </a:r>
            <a:r>
              <a:rPr b="0" lang="en-US" sz="1600" spc="-1" strike="noStrike">
                <a:solidFill>
                  <a:srgbClr val="ffffff"/>
                </a:solidFill>
                <a:latin typeface="Times New Roman Cyr"/>
              </a:rPr>
              <a:t>)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2286000"/>
            <a:ext cx="9144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495680"/>
            <a:ext cx="20574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46960" y="4062240"/>
            <a:ext cx="15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Слот для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блока питания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0048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Слот для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звуковой карты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743200"/>
            <a:ext cx="190476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56000" y="1197000"/>
            <a:ext cx="0" cy="16970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87400" y="981000"/>
            <a:ext cx="129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Слот для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видеокарты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5029200"/>
            <a:ext cx="20574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537372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 Cyr"/>
              </a:rPr>
              <a:t>Слот для дисковода для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 Cyr"/>
              </a:rPr>
              <a:t>компакт-дисков </a:t>
            </a: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CD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4800600"/>
            <a:ext cx="20574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4572000"/>
            <a:ext cx="174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Слот для дисковода для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гибких дисков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5029200"/>
            <a:ext cx="0" cy="3808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5157720"/>
            <a:ext cx="0" cy="7621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5734080"/>
            <a:ext cx="151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 Cyr"/>
              </a:rPr>
              <a:t>Слот для </a:t>
            </a: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винчестера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70080" y="32241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Слот для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 Cyr"/>
              </a:rPr>
              <a:t>процессора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4038480"/>
            <a:ext cx="685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467480" y="3657600"/>
            <a:ext cx="0" cy="3808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руктура ЭВМ  состоит из 5 основных функциональных блоков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cc"/>
                </a:solidFill>
                <a:uFillTx/>
                <a:latin typeface="Times New Roman"/>
              </a:rPr>
              <a:t>Устройство ввода информации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- обеспечивает передачу от человека или первичных датчиков информации к ЭВМ. Здесь осуществляется кодирование информации с языка человека (аналоговый сигнал) на язык двоичных кодов для ЭВМ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9" dur="1" fill="hold"/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руктура ЭВМ  состоит из 5 основных функциональных блоков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cc"/>
                </a:solidFill>
                <a:uFillTx/>
                <a:latin typeface="Times New Roman"/>
              </a:rPr>
              <a:t>Память (внутренняя и внешняя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- хранилище данных и программ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9" dur="1" fill="hold"/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руктура ЭВМ  состоит из 5 основных функциональных блоков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cc"/>
                </a:solidFill>
                <a:uFillTx/>
                <a:latin typeface="Times New Roman"/>
              </a:rPr>
              <a:t>Арифметическое устройство (АЛУ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- складывает, вычитает, сравнивает, выполняет другие логические операции. АЛУ связано с ОЗУ двунаправленным потоком данных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9" dur="1" fill="hold"/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руктура ЭВМ  состоит из 5 основных функциональных блоков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cc"/>
                </a:solidFill>
                <a:uFillTx/>
                <a:latin typeface="Times New Roman"/>
              </a:rPr>
              <a:t>Устройство управления</a:t>
            </a: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 - последо-вательно считывает содержимое ячеек памяти, где находится программа и организует ее выполнение. Порядок  команд может быть изменен с помощью </a:t>
            </a:r>
            <a:r>
              <a:rPr b="0" lang="ru-RU" sz="3200" spc="-1" strike="noStrike" u="sng">
                <a:solidFill>
                  <a:srgbClr val="0099cc"/>
                </a:solidFill>
                <a:uFillTx/>
                <a:latin typeface="Times New Roman"/>
              </a:rPr>
              <a:t>команд передачи управления (перехода)</a:t>
            </a:r>
            <a:r>
              <a:rPr b="0" lang="ru-RU" sz="3200" spc="-1" strike="noStrike">
                <a:solidFill>
                  <a:srgbClr val="dddddd"/>
                </a:solidFill>
                <a:latin typeface="Times New Roman"/>
              </a:rPr>
              <a:t> - это позволяет организовать циклы, ветвления и т.д., т.е. выполнять сложные программы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9" dur="1" fill="hold"/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руктура ЭВМ  состоит из 5 основных функциональных блоков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cc"/>
                </a:solidFill>
                <a:uFillTx/>
                <a:latin typeface="Times New Roman"/>
              </a:rPr>
              <a:t>Устройство вывода информации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- связующее звено между машиной и человеком или исполнительным механизмом. Здесь осуществляется дешифрация с языка ЭВМ на язык понятный человеку (или аналоговый сигнал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9" dur="1" fill="hold"/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355680" y="404640"/>
            <a:ext cx="8683560" cy="6036480"/>
            <a:chOff x="355680" y="404640"/>
            <a:chExt cx="8683560" cy="603648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7477200" y="4408560"/>
              <a:ext cx="131580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rcRect l="0" t="0" r="0" b="11014"/>
            <a:stretch/>
          </p:blipFill>
          <p:spPr>
            <a:xfrm>
              <a:off x="523800" y="3530520"/>
              <a:ext cx="135252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2019240" y="4546440"/>
              <a:ext cx="113832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4"/>
            <a:stretch/>
          </p:blipFill>
          <p:spPr>
            <a:xfrm>
              <a:off x="738360" y="2714760"/>
              <a:ext cx="13968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flipV="1">
              <a:off x="4129200" y="3067200"/>
              <a:ext cx="0" cy="65088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246640" y="3054240"/>
              <a:ext cx="0" cy="66384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aphicFrame>
          <p:nvGraphicFramePr>
            <p:cNvPr id="219" name=""/>
            <p:cNvGraphicFramePr/>
            <p:nvPr/>
          </p:nvGraphicFramePr>
          <p:xfrm>
            <a:off x="3443400" y="2668680"/>
            <a:ext cx="925560" cy="358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43400" y="2668680"/>
                      <a:ext cx="92556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2517840" y="3718080"/>
              <a:ext cx="569592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17840" y="4202280"/>
              <a:ext cx="5695920" cy="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00080" y="3465360"/>
              <a:ext cx="594000" cy="989280"/>
            </a:xfrm>
            <a:prstGeom prst="leftArrow">
              <a:avLst>
                <a:gd name="adj1" fmla="val 50000"/>
                <a:gd name="adj2" fmla="val 49995"/>
              </a:avLst>
            </a:prstGeom>
            <a:solidFill>
              <a:srgbClr val="75aecb"/>
            </a:solidFill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37520" y="3465360"/>
              <a:ext cx="520560" cy="9892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75aecb"/>
            </a:solidFill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33400" y="404640"/>
              <a:ext cx="63118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Общая структура персонального 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                     </a:t>
              </a: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компьютера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91080" y="3703680"/>
              <a:ext cx="558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истемная магистраль (шина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505560" y="3026880"/>
              <a:ext cx="0" cy="69084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715160" y="3026880"/>
              <a:ext cx="0" cy="69084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727440" y="4202280"/>
              <a:ext cx="0" cy="41400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795920" y="4202280"/>
              <a:ext cx="0" cy="41400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935680" y="4202280"/>
              <a:ext cx="0" cy="41400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978600" y="4202280"/>
              <a:ext cx="0" cy="41400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730600" y="4202280"/>
              <a:ext cx="0" cy="41400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5680" y="1371600"/>
              <a:ext cx="159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 Cyr"/>
                </a:rPr>
                <a:t>Основная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 Cyr"/>
                </a:rPr>
                <a:t>память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7"/>
            <a:stretch/>
          </p:blipFill>
          <p:spPr>
            <a:xfrm>
              <a:off x="2303640" y="1622520"/>
              <a:ext cx="149508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flipV="1">
              <a:off x="2873520" y="2820960"/>
              <a:ext cx="0" cy="89712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0320" y="134136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 Cyr"/>
                </a:rPr>
                <a:t>Монитор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67960" y="1301760"/>
              <a:ext cx="166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 Cyr"/>
                </a:rPr>
                <a:t>Манипуляторы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9520" y="162864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 Cyr"/>
                </a:rPr>
                <a:t>Модем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95280" y="17002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 Cyr"/>
                </a:rPr>
                <a:t>Сканер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37280" y="1301760"/>
              <a:ext cx="200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 Cyr"/>
                </a:rPr>
                <a:t>Графопостроитель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 Cyr"/>
                </a:rPr>
                <a:t>(плоттер)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8"/>
            <a:stretch/>
          </p:blipFill>
          <p:spPr>
            <a:xfrm>
              <a:off x="3300480" y="4616280"/>
              <a:ext cx="99684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316880" y="25002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ОЗУ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5200" y="25002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ПЗУ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145280" y="1900080"/>
              <a:ext cx="123516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10"/>
            <a:stretch/>
          </p:blipFill>
          <p:spPr>
            <a:xfrm>
              <a:off x="5864400" y="2130480"/>
              <a:ext cx="11397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3400" y="5229360"/>
              <a:ext cx="142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 Cyr"/>
                </a:rPr>
                <a:t>Клавиатура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8480" y="44132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 Cyr"/>
                </a:rPr>
                <a:t>Процессор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08200" y="2130120"/>
              <a:ext cx="214200" cy="34596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234800" y="2130120"/>
              <a:ext cx="214200" cy="34596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90880" y="5397480"/>
              <a:ext cx="124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Дисковод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для жёстких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дисков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71040" y="5397480"/>
              <a:ext cx="1133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Дисковод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для гибких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дисков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11"/>
            <a:stretch/>
          </p:blipFill>
          <p:spPr>
            <a:xfrm>
              <a:off x="4726080" y="2062080"/>
              <a:ext cx="1112760" cy="7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2"/>
            <a:stretch/>
          </p:blipFill>
          <p:spPr>
            <a:xfrm>
              <a:off x="4129200" y="1647720"/>
              <a:ext cx="66024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3"/>
            <a:stretch/>
          </p:blipFill>
          <p:spPr>
            <a:xfrm>
              <a:off x="4414680" y="4546440"/>
              <a:ext cx="1068480" cy="7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4"/>
            <a:stretch/>
          </p:blipFill>
          <p:spPr>
            <a:xfrm>
              <a:off x="5508720" y="4437000"/>
              <a:ext cx="96516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54440" y="5373720"/>
              <a:ext cx="1243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 Cyr"/>
                </a:rPr>
                <a:t>Дисковод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 Cyr"/>
                </a:rPr>
                <a:t>для компакт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 Cyr"/>
                </a:rPr>
                <a:t>дисков 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 Cyr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CD-ROM )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7280" y="5398920"/>
              <a:ext cx="863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Сетевая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карта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98960" y="580536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 Cyr"/>
                </a:rPr>
                <a:t>Принтер</a:t>
              </a:r>
              <a:endParaRPr b="0" lang="en-US" sz="16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6515280" y="4546440"/>
              <a:ext cx="103176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flipV="1">
              <a:off x="7975440" y="4201920"/>
              <a:ext cx="0" cy="276120"/>
            </a:xfrm>
            <a:prstGeom prst="line">
              <a:avLst/>
            </a:prstGeom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се устройство ПК делятся на внутренние и внеш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1905120"/>
          <a:ext cx="7772400" cy="4680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Внешние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Внутренние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Клавиатура 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Материнская плата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Монитор 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Процессор 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Мышь 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Внутренняя память (ПЗУ и ОЗУ)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Сканер 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Системная  шина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Модем 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Контроллеры 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НГМД, НЖМД и CD-ROM, </a:t>
                      </a:r>
                      <a:r>
                        <a:rPr b="0" i="1" lang="en-US" sz="24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Flash-</a:t>
                      </a:r>
                      <a:r>
                        <a:rPr b="0" i="1" lang="ru-RU" sz="24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накопители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Принтер </a:t>
                      </a: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нутренняя память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тличие  ОЗУ и ПЗ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89000"/>
          <a:ext cx="8136000" cy="451800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ПЗУ (постоянное запоминающее устройство)</a:t>
                      </a: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ОЗУ(оперативное запоминающее устройство)</a:t>
                      </a: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Информация не разрушается при выключении ПК</a:t>
                      </a: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Информация уничтожается при выключении ПК</a:t>
                      </a: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Информация только считывается, но записать новую информацию нельзя</a:t>
                      </a: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Информация может и  считывается, и  записываться</a:t>
                      </a: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Нельзя модифицировать </a:t>
                      </a: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Можно увеличить или даже заменить </a:t>
                      </a: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7724520" cy="943200"/>
          </a:xfrm>
          <a:prstGeom prst="rect">
            <a:avLst/>
          </a:prstGeom>
          <a:gradFill rotWithShape="0">
            <a:gsLst>
              <a:gs pos="0">
                <a:srgbClr val="008d8d"/>
              </a:gs>
              <a:gs pos="50000">
                <a:srgbClr val="00cccc"/>
              </a:gs>
              <a:gs pos="100000">
                <a:srgbClr val="008d8d"/>
              </a:gs>
            </a:gsLst>
            <a:lin ang="13500000"/>
          </a:gradFill>
          <a:ln w="47520">
            <a:solidFill>
              <a:srgbClr val="00ff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Введение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Компьютер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— это многофункциональное электронное устройство, предназначенное для накопления, обработки и передачи информации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Под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архитектурой персонального компьютера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понимается его логическая организация, структура и ресурсы, т. е. средства вычислительной системы, которые могут быть выделены процессу обработки данных на определенный интервал времени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8752" t="10004" r="10435" b="14999"/>
          <a:stretch/>
        </p:blipFill>
        <p:spPr>
          <a:xfrm>
            <a:off x="395280" y="476280"/>
            <a:ext cx="3276720" cy="2881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35280" y="476280"/>
            <a:ext cx="49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теринская (системная, главная) плат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является центральной частью любого компьютера, на которой размещаются в общем случае центральный процессор, сопроцессор, контроллеры, обеспечивающие связь центрального процессора с периферийными устройствами, оперативная память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RAM)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кэш-память, элемент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M-BIO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базовой системы ввода/вывод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аккумуляторная батарея, кварцевый генератор тактовой частоты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лоты</a:t>
            </a:r>
            <a:r>
              <a:rPr b="0" sz="1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ъемы) для подключения других устройств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3500280"/>
            <a:ext cx="7921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щая производительность материнской платы определяется не только тактовой частотой, но и количеством (разрядностью) данных, обрабатываемых в единицу времени центральным процессором, а также разрядностью шины обмена данных между различными устройствами материнской платы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функциональному назначению шины делятся на: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000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шину данных;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000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дресную шину;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00080" indent="-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шину управления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553440" cy="50832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истемная ш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5000" y="1989000"/>
            <a:ext cx="7393320" cy="305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00000" y="5157720"/>
            <a:ext cx="72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ная шин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– информационная магистраль, которая связывает друг с другом все устройства компьютера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группа токопроводящих кабелей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или линий на системной плате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5564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dddddd"/>
                </a:solidFill>
                <a:uFillTx/>
                <a:latin typeface="Times New Roman"/>
              </a:rPr>
              <a:t>Адресная шина</a:t>
            </a:r>
            <a:r>
              <a:rPr b="0" i="1" lang="ru-RU" sz="2800" spc="-1" strike="noStrike">
                <a:solidFill>
                  <a:srgbClr val="dddddd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У процессоров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l Pentium </a:t>
            </a: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адресная шина 32-разрядная, то есть состоит из 32 параллельных линий. Комбинация из 32 нулей и единиц образует 32-разрядный адрес, указывающий на одну из ячеек оперативной памяти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dddddd"/>
                </a:solidFill>
                <a:uFillTx/>
                <a:latin typeface="Times New Roman"/>
              </a:rPr>
              <a:t>Шины данных.</a:t>
            </a:r>
            <a:r>
              <a:rPr b="0" i="1" lang="ru-RU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В компьютерах, собранных на базе процессоров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ntel Pentium</a:t>
            </a: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, шина данных 64-разрядная, то есть состоит из 64 линий, по которым за один раз на обработку поступают сразу 8 байт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dddddd"/>
                </a:solidFill>
                <a:uFillTx/>
                <a:latin typeface="Times New Roman"/>
              </a:rPr>
              <a:t>Шины команд.</a:t>
            </a:r>
            <a:r>
              <a:rPr b="0" i="1" lang="ru-RU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dddddd"/>
                </a:solidFill>
                <a:latin typeface="Times New Roman"/>
              </a:rPr>
              <a:t>В большинстве современных процессоров шина команд 32-разрядная, хотя существуют 64-разрядные и даже 128-разрядные процессоры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76720" y="260280"/>
            <a:ext cx="556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шине данных происходит обмен данными между центральным процессором, картами расширения и памятью. Разрядность шины данных варьируется от 8-ми битов (сейчас не используется) до 64-х битов в материнских платах современны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C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 адресной шине происходит адресация ячеек памяти, в которые производится запись данных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12640" y="29829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0360" y="2666880"/>
            <a:ext cx="855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778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шине управления или системной шине происходит передача управляющих сигналов между центральным процессором и периферией. На материнской плате системная шина заканчивается слотами для установки других устройств</a:t>
            </a:r>
            <a:r>
              <a:rPr b="0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Адресные шины и шины данных иногда занимают одни и те же физические проводники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913360" y="4038480"/>
            <a:ext cx="2997360" cy="2565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76200" y="4191120"/>
            <a:ext cx="542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существует несколько стандартов шин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A (Industry Sland art Architecture), MCA (MicroChannel Architecture), EISA (Extended ISA), VESA (Video Electronics SlandarlAssollallon), PCI (Peripheral Component Interconnect</a:t>
            </a:r>
            <a:r>
              <a:rPr b="0" sz="20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B (Universal Serial BUS)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9640" y="549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хитектура материнских плат постоянно совершенствуется: увеличивается их функциональная насыщенность, повышается производительность. Стало стандартом наличие на материнской плате таких встроенных устройств, как двухканальны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-ID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онтролле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DD 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ёстких дис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онтролле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DD 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бки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floppy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исков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усовершенствованного параллельного (LPT) и последовательного (COM) портов, а также последовательного инфракрасного порта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43280" y="414972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р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многоразрядный вход или выход в устройстве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2152800" cy="18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щем случае под процессором понимают  устройство производящее набор операций над данными, представленными в цифровой форме</a:t>
            </a:r>
            <a:r>
              <a:rPr b="0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ичным кодом). Применительно к вычислительной технике под процессором понимают центральное процессорное устройств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PU)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ладающее способностью выбирать, декодировать и выполнять команды а также передавать и принимать информацию от других       устройств.        Проще        говоря,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оцессор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лектронная схема, выполняющая обработку  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836640"/>
            <a:ext cx="8382240" cy="71928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цессоры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81880" cy="71892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процессорные ЭВ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66800" y="4711680"/>
            <a:ext cx="1363680" cy="9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цессорный элемент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49520" y="4711680"/>
            <a:ext cx="1362240" cy="9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цессорный элемент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30800" y="4711680"/>
            <a:ext cx="1363680" cy="9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цессорный элемент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24000" y="3645000"/>
            <a:ext cx="4479840" cy="471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щая шина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070680" y="4081320"/>
            <a:ext cx="0" cy="473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400480" y="4081320"/>
            <a:ext cx="0" cy="473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87960" y="4081320"/>
            <a:ext cx="0" cy="473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0" y="2425680"/>
            <a:ext cx="1143000" cy="99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05240" y="1587600"/>
            <a:ext cx="411480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щая память данных и команд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Центральный процессор имеет доступ к  данным, находящимся в оперативной памяти</a:t>
            </a:r>
            <a:r>
              <a:rPr b="0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изическое устройство памяти называется ОЗУ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перативное запоминающее устройство или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RAM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Random Access Memory)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Работа компьютера с пользовательскими программами начинается после  того  как  данные  будут  считаны  из  внешней   памяти  в   ОЗУ</a:t>
            </a:r>
            <a:r>
              <a:rPr b="0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ОЗУ работает синхронно с центральным процессором и имеет малое время доступа. Оперативная память сохраняет данные только при включенном питании. Отключение питания приводит к необратимой потере данных, поэтому пользователю, работающему с большими массивами данных в течение длительного времени, рекомендуют периодически сохранять промежуточные результаты на внешнем носителе. По способу реализации оперативная память делится на динамическую и статическую.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549360"/>
            <a:ext cx="8064720" cy="71892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219640" y="5157720"/>
            <a:ext cx="3200400" cy="12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99308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нчестер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копители на жестких диска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это внешняя память большого объема, предназначенная для долговременного хранения информации, объединяющая в одном корпусе сам носитель информации и устройство записи/чтения. По сравнению с дисководами винчестеры обладают рядом очень ценных преимуществ: объем хранимых данных неизмеримо больше (достигает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Тбайт и более), время доступа у винчестера на порядок меньше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549360"/>
            <a:ext cx="8064720" cy="71892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Жесткий диск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11280" y="3933720"/>
            <a:ext cx="2387520" cy="1765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203640" y="378936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нчестер состоит из не скольких жестких (чаще алюминиевых) дисков, с нанесенным на поверхность магнитным слоем и расположенных друг под другом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360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а является основным устройством ввода информации 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C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есмотря на</a:t>
            </a:r>
            <a:r>
              <a:rPr b="0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льную конкуренцию со стороны мыши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конструктивному исполнению различают следующие виды клавиатуры: клавиатуры с пластмассовыми штырями, клавиатуры со щелчком, клавиатуры на микропереключателях или герконах, сенсорные клавиатуры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авиатуры различаются также количеством и расположением клавиш. Различают клавиатуры типа СГ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, MFII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существуют некоторые другие  виды  клавиатур: эргономические клавиатуры, промышленные, со считывающим устройством штрихового кода, для слепых, инфракрасны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спроводные) и т.п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549360"/>
            <a:ext cx="8064720" cy="71892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лавиатура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(Keyboar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2620800" cy="18144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419640" y="4508640"/>
            <a:ext cx="2665080" cy="18144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663640" cy="180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нцип программного управл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программа состоит из набора команд, которые выполняются процессором автоматически друг за другом в заданной последовательности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нцип однородности памя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программы и данные хранятся в одной и той же памяти; над командами можно выполнять такие же действия, как и над данными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нцип адресн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основная память структурно состоит из пронумерованных ячеек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476280"/>
            <a:ext cx="8077320" cy="133812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В основу построения большинства ЭВМ положены принципы, сформулированные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в </a:t>
            </a: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1945 г. Джоном фон Нейманом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и являются важнейшими устройствами  отображения  информации.  В настоящее время существует большое разнообразие типов мониторов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Монито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1916280"/>
            <a:ext cx="568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ифровы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TTL)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мониторы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 цифровыми мониторами понимаются устройства отображения зрительной информации на основе электронно-лучевой трубки, управляемой цифровыми схемами. 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2232000" cy="1997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843280" y="3068640"/>
            <a:ext cx="367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Аналоговые мониторы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 Электронно-лучевая трубка мониторов данного типа управляется аналоговыми сигналами, поступающими от видеокарты.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443640" y="2781360"/>
            <a:ext cx="1946160" cy="18860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203640" y="4724280"/>
            <a:ext cx="532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дкокристаллические дисплеи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LCD)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Экран подобного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LCD (Liquid Crystal Display)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стоит из двух стеклянных пластин, между которыми находится масса, содержащая жидкие кристаллы, которые изменяют свои оптические свойства в зависимости от прилагаемого электрического заряда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rcRect l="0" t="0" r="5933" b="0"/>
          <a:stretch/>
        </p:blipFill>
        <p:spPr>
          <a:xfrm>
            <a:off x="1042920" y="4292640"/>
            <a:ext cx="1703520" cy="201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16360" y="476280"/>
            <a:ext cx="568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нте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устройство для вывода на бумагу текстов и графических изображений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ипы принтеров: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indent="174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трич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нтеры (дешёвые, качество печати невысокое, скорость печати 1 страница/мин., нецветные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indent="174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руйны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теры (средние цены,  качество  печати   высокое, скорость печати 1 страница/мин., цветные и   монохромные);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indent="174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ер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нтеры (высокие цены, качество  печати высокое, скорость печати 4–15 страниц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н.,  цветные  и монохромные)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лотте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графопостроитель) – устройство для вывода на бумагу чертежей. Обычный плоттер использует листы форматом А1. Скорость печати  примерно 1 лист/час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анер</a:t>
            </a:r>
            <a:r>
              <a:rPr b="0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то устройство ввода 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C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цветного и черно-белого изображения с бумаги, пленки и т.п. Сканер последовательно преобразует оптический сигнал, получаемый при сканировании изображения световым лучом, в электрический, а затем в цифровой код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046240" cy="1581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9640" y="4581360"/>
            <a:ext cx="2448000" cy="149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318360" y="2971800"/>
            <a:ext cx="920520" cy="1052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572000" y="4437000"/>
            <a:ext cx="1719360" cy="1698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68360" y="692280"/>
            <a:ext cx="57085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tabLst>
                <a:tab algn="l" pos="0"/>
                <a:tab algn="ctr" pos="363600"/>
                <a:tab algn="r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устройство записи на магнитную ленту в специальной кассете для резервного копирования данных винчестера на случай их утраты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363600"/>
                <a:tab algn="r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нипулятор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мышь, трекбол, джойстик –  устройства управления  курсором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363600"/>
                <a:tab algn="r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мер технических характеристик мыши на следующем  слайде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363600"/>
                <a:tab algn="r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вуковая кар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саундбластер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устройство для преобразования цифровой информации  на  дисках  и компакт-дисках  в  звуки. К выходу саундбластера подключают колонки.               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363600"/>
                <a:tab algn="r" pos="14288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093080" y="4221000"/>
            <a:ext cx="1164960" cy="19656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6308640" y="1066680"/>
            <a:ext cx="709560" cy="14544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rcRect l="0" t="16677" r="0" b="20000"/>
          <a:stretch/>
        </p:blipFill>
        <p:spPr>
          <a:xfrm>
            <a:off x="1042920" y="4581360"/>
            <a:ext cx="2806920" cy="1333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7423200" y="2057400"/>
            <a:ext cx="1187280" cy="1473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7"/>
          <a:stretch/>
        </p:blipFill>
        <p:spPr>
          <a:xfrm>
            <a:off x="7380360" y="620640"/>
            <a:ext cx="1068480" cy="136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оне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В 1945 г. Джон фон Нейман подготовил научный отчет, где впервые представил логическую организацию ЭВМ независимо от ее элементной базы. Это позволило заложить основы проектирования ЭВМ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В докладе описано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базовых компонент универсального компьютера и принцип его функционирования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549360"/>
            <a:ext cx="8077320" cy="76176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рхитектура фон Неймана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Модель фон Неймана, разбивает все оборудование компьютерной системы на пять главных элементов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центральный вычислительный блок (CPU);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устройства ввода;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устройства вывода;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память;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массовое хранилище данных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50000">
                <a:srgbClr val="00a2a2"/>
              </a:gs>
              <a:gs pos="100000">
                <a:srgbClr val="00ccc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рхитектура фон Нейм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143000"/>
          <a:ext cx="82296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2296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77320" cy="76176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рхитектура фон Нейм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Принцип фон Неймана - обосновывал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последовательный порядок выполнения операций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"управление потоком команд задаваемых программой"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657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Данные занимают подчиненное положение,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ход выполнения вычислительного процесса определяется только потоком команд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0984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ЭВМ вводится информация двух типов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cc"/>
                </a:solidFill>
                <a:uFillTx/>
                <a:latin typeface="Times New Roman"/>
              </a:rPr>
              <a:t>Программа</a:t>
            </a:r>
            <a:r>
              <a:rPr b="0" lang="en-US" sz="28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- набор команд, указывающий центральному процессору как нужно осуществлять решение задачи. Программа помещается в памяти ЭВМ и используется только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устройством управления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cc"/>
                </a:solidFill>
                <a:uFillTx/>
                <a:latin typeface="Times New Roman"/>
              </a:rPr>
              <a:t>Данные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- это определенные факты, цифры, необходимые для решения конкретной задачи. Они направляются к различным устройствам внутри ЭВМ и обрабатываются в АЛУ (арифметико-логическом устройстве). Данные не нужны для устройства управления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620640"/>
            <a:ext cx="8229600" cy="60984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 ЭВМ вводится информация двух типов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685800"/>
          </a:xfrm>
          <a:prstGeom prst="rect">
            <a:avLst/>
          </a:prstGeom>
          <a:gradFill rotWithShape="0">
            <a:gsLst>
              <a:gs pos="0">
                <a:srgbClr val="003c3c"/>
              </a:gs>
              <a:gs pos="50000">
                <a:srgbClr val="00cccc"/>
              </a:gs>
              <a:gs pos="100000">
                <a:srgbClr val="003c3c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токи команд и данных в ЭВ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1766880"/>
          <a:ext cx="8132760" cy="37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66880"/>
                    <a:ext cx="813276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9:13:20Z</dcterms:created>
  <dc:creator>Асель</dc:creator>
  <dc:description/>
  <dc:language>en-US</dc:language>
  <cp:lastModifiedBy>user</cp:lastModifiedBy>
  <dcterms:modified xsi:type="dcterms:W3CDTF">2011-10-17T05:25:17Z</dcterms:modified>
  <cp:revision>4</cp:revision>
  <dc:subject/>
  <dc:title>Архитектура ЭВМ</dc:title>
</cp:coreProperties>
</file>